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804-3956-45FC-A1D3-AEEAB195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8A8-3D15-448B-8C57-3F14FA2C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23F-1CEF-4392-8938-0F2071BB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A0B-F985-4DDA-9A26-A26106C1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C3C-C942-45F7-9180-65BBB67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A76-ACE1-4FAF-94B9-E376544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4CE-1914-4B9E-AB64-6DF2A53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A43-EE30-45A3-B733-1AADF5F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F9A-44CE-46CC-9B17-85C7344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905-2E98-4F57-9206-BB3CAB7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40E-55CB-4366-9F18-3665643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174-2BBF-42B1-B32E-525CC0E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BA84-11D7-44A5-9D79-4714275F2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8:06Z</dcterms:created>
  <dc:creator>INVES-S6600A</dc:creator>
  <dc:description/>
  <dc:language>en-US</dc:language>
  <cp:lastModifiedBy>INVES-S6600A</cp:lastModifiedBy>
  <dcterms:modified xsi:type="dcterms:W3CDTF">2010-11-23T13:29:00Z</dcterms:modified>
  <cp:revision>1</cp:revision>
  <dc:subject/>
  <dc:title>Diapositiva 1</dc:title>
</cp:coreProperties>
</file>